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gif" ContentType="image/gif"/>
  <Override PartName="/ppt/media/image5.wmf" ContentType="image/x-wmf"/>
  <Override PartName="/ppt/media/image6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C37-90E7-4E11-909B-C1C36A04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877-6F17-45FE-9A9C-0A7766E7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801-8AF4-4AC2-AB72-CDF21BDD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3CC-B8DC-4989-A96C-F8042D46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5478-C5D4-4F85-8452-34ADFCA6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04FA-3186-42E6-8AEB-226C0908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BD17-B727-442B-A51C-93DA5526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D806-7A31-41A6-B1B8-31638E12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8CDC-4A25-4AEB-9439-DCD190A8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64D1-06BA-424D-AB58-5D975062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9038-5029-4DA0-BAD1-41AB2468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87E-ED19-4E27-A8FC-9EE673B8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E9B2-785D-4B4B-BC37-D268FD8E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CB91-C4DA-48A1-AF16-E7A2B80F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EE03-8402-41BB-9919-9A58CC03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52D4-4113-459B-976A-25E0A3E9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2C0A-610D-4EA1-8428-3F55E1E5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642-9B5E-4F96-9D4A-32D4E287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5C3-A424-471B-9D0B-4BE2BBFC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838-6CF9-482A-BEFD-BD506F51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3A6-F064-4D48-A1E9-48354150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99B-8EFF-42A9-8DD5-CC9D5629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022-FCF9-4CAA-ACB6-956E8DCE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082-1F75-4E46-A2F1-6ECF6EC4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E9EE-501B-4A29-91EA-3A656D5C2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0938-6734-4556-B757-24B5F21CD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4;&#1086;&#1084;&#1072;&#1096;&#1085;&#1103;&#1103;%20&#1088;&#1072;&#1073;&#1086;&#1090;&#1072;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2.xls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654280" cy="2012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24000" y="1844640"/>
            <a:ext cx="8496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Разложение    многочлена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на   множители   с   помощью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комбинации   различных   приемов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Упростить выражение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751120" y="2819520"/>
                <a:ext cx="1015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31000" y="2819520"/>
                <a:ext cx="1015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751120" y="4991040"/>
                <a:ext cx="1015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43080" y="1933560"/>
                <a:ext cx="6800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84360" y="2924280"/>
                <a:ext cx="741672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trips dir="r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116000" y="1268280"/>
          <a:ext cx="6911280" cy="2088360"/>
        </p:xfrm>
        <a:graphic>
          <a:graphicData uri="http://schemas.openxmlformats.org/drawingml/2006/table">
            <a:tbl>
              <a:tblPr/>
              <a:tblGrid>
                <a:gridCol w="1151640"/>
                <a:gridCol w="1152000"/>
                <a:gridCol w="1152000"/>
                <a:gridCol w="1151640"/>
                <a:gridCol w="1152000"/>
                <a:gridCol w="1152000"/>
              </a:tblGrid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6000" y="4869000"/>
                <a:ext cx="7848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9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00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64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116000" y="3860640"/>
                <a:ext cx="1017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9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strips dir="r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«НАУКА и ТЕХНИКА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26920" y="1916280"/>
                <a:ext cx="52578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13000"/>
                <a:ext cx="4968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+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42920" y="4653000"/>
                <a:ext cx="4969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77080" y="3429000"/>
            <a:ext cx="114300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«НАУКА и ТЕХНИКА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00000" y="1916280"/>
                <a:ext cx="5921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882720" y="3213000"/>
                <a:ext cx="68594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901800" y="4581360"/>
                <a:ext cx="6983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t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«ДЕНЬ за ДНЕМ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пример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971640" y="2708280"/>
                <a:ext cx="756108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m>
                      <m:mr>
                        <m:e/>
                        <m:e>
                          <m:r>
                            <m:t xml:space="preserve">(</m:t>
                          </m:r>
                          <m:r>
                            <m:t xml:space="preserve">8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72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«СЕМЬЯ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авните, что больш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116000" y="3141720"/>
                <a:ext cx="72723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m>
                      <m:mr>
                        <m:e/>
                        <m:e/>
                      </m:mr>
                    </m:m>
                    <m:r>
                      <m:rPr>
                        <m:lit/>
                        <m:nor/>
                      </m:rPr>
                      <m:t xml:space="preserve">или</m:t>
                    </m:r>
                    <m:m>
                      <m:mr>
                        <m:e/>
                        <m:e/>
                      </m:mr>
                    </m:m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Домашняя работа.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ы 7 класса МОУ «СОШ № 5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ородиной Нат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627280" y="1268280"/>
            <a:ext cx="3927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7(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95280" y="692280"/>
                <a:ext cx="8209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4(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2924280"/>
            <a:ext cx="51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63(г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68360" y="1916280"/>
                <a:ext cx="79200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а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а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а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11280" y="3213000"/>
                <a:ext cx="5545080" cy="34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р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р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р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р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р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р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р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р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</m:mr>
                                      <m:mr>
                                        <m:e/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  <m:mr>
                            <m:e/>
                          </m:mr>
                        </m:m>
                        <m:r>
                          <m:t xml:space="preserve">р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m>
                          <m:mr>
                            <m:e/>
                            <m:e/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/>
                                      </m:mr>
                                    </m:m>
                                  </m:e>
                                  <m:e/>
                                </m:mr>
                              </m:m>
                            </m:e>
                            <m:e/>
                          </m:mr>
                        </m:m>
                        <m:r>
                          <m:t xml:space="preserve">р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m>
                          <m:mr>
                            <m:e/>
                            <m:e/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/>
                                      </m:mr>
                                    </m:m>
                                  </m:e>
                                  <m:e/>
                                </m:mr>
                              </m:m>
                            </m:e>
                            <m:e/>
                          </m:mr>
                        </m:m>
                        <m:r>
                          <m:t xml:space="preserve">р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6872400" y="622224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вет: -2;  1; 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Black"/>
              </a:rPr>
              <a:t>Способы</a:t>
            </a:r>
            <a:r>
              <a:rPr b="1" lang="en-US" sz="40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33cc"/>
                </a:solidFill>
                <a:latin typeface="Arial Black"/>
              </a:rPr>
              <a:t>разложения многочлена на множители</a:t>
            </a:r>
            <a:r>
              <a:rPr b="1" lang="en-US" sz="4000" spc="-1" strike="noStrike">
                <a:solidFill>
                  <a:srgbClr val="0066ff"/>
                </a:solidFill>
                <a:latin typeface="Arial Black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80074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несение общего множителя за скобк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улы сокращенного умнож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уппиров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деление полного квадр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920" y="2852640"/>
            <a:ext cx="5616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Кван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Человек и зак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День за дне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емь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404640"/>
            <a:ext cx="8353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УЧНО - ИССЛЕДОВАТЕЛЬСКИЙ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СТИТУТ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659640" y="4151160"/>
            <a:ext cx="2233440" cy="206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373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ff"/>
                </a:solidFill>
                <a:uFillTx/>
                <a:latin typeface="Arial Black"/>
                <a:hlinkClick r:id="rId1"/>
              </a:rPr>
              <a:t>Тест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«Разложение многочлена на множители с помощью комбинации различных приёмов»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«КВАНТ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871640" cy="165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640" y="5300640"/>
            <a:ext cx="1419480" cy="1238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00000" y="3933720"/>
                <a:ext cx="7604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0</m:t>
                    </m:r>
                    <m:m>
                      <m:mr>
                        <m:e>
                          <m:r>
                            <m:t xml:space="preserve">;</m:t>
                          </m:r>
                          <m:m>
                            <m:mr>
                              <m:e/>
                              <m:e/>
                            </m:mr>
                          </m:m>
                        </m:e>
                        <m:e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3366000" y="313128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Реш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971640" y="1916280"/>
                <a:ext cx="44640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24000" y="1197000"/>
            <a:ext cx="626400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Разложить многочлен на множители разными спос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1801800" cy="1808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«ЧЕЛОВЕК и ЗАКОН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59280" y="1844640"/>
            <a:ext cx="576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ую сумму денег похитили грабит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71640" y="1557360"/>
                <a:ext cx="201600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97</m:t>
                        </m:r>
                      </m:e>
                      <m:sup>
                        <m:r>
                          <m:t xml:space="preserve">?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124000" y="3789360"/>
                <a:ext cx="3888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61928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124000" y="5157720"/>
                <a:ext cx="40323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trips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Проверь ответ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1640" y="1844640"/>
                <a:ext cx="370872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÷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932360" y="1844640"/>
                <a:ext cx="388296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÷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9:02:09Z</dcterms:created>
  <dc:creator>Оксана</dc:creator>
  <dc:description/>
  <dc:language>en-US</dc:language>
  <cp:lastModifiedBy>Марина</cp:lastModifiedBy>
  <dcterms:modified xsi:type="dcterms:W3CDTF">2007-03-25T15:36:08Z</dcterms:modified>
  <cp:revision>7</cp:revision>
  <dc:subject/>
  <dc:title>«Разложение многочлена на множители с помощью комбинации различных приёмов»</dc:title>
</cp:coreProperties>
</file>